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15AD-6E3F-42B4-93C9-9868E346F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DDC1-727F-4585-8579-31A91A072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A845-2395-4033-8B41-CC148759D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BFC6-448D-4276-AEC7-BFDBB1DAC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90A7-1F8F-4A60-9039-24BB6A7A0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ECD2-5817-45AD-B3DF-0E2E7D146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7EC8-EF7A-4D8E-85F4-6ED0EC5B3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35D7-DD31-4931-8440-36A09AD13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B548-5259-4205-852D-C550D0E2A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988D-F645-4611-8725-3947C433E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5CA0-980C-4AFB-AC18-3154400D3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C77F-CF24-4613-A2EF-2EEE9CB19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132D-16D3-4E36-AB2D-38849F77C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62F1-295D-4A46-AC20-F9784FF24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72A5-57CA-42E5-B9E1-C1494E37F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858C-ED0E-41AC-B6E9-63BE40890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889E-4672-46AF-B875-2DD09359C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B822-74BF-4AA5-9CE1-5B08D6FCD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4753-2E8E-48D1-851E-F9684B64D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7CDD-6F71-477F-B2EF-1363D1D6F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8524-122F-4252-BA38-1B20CA86E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AC2B-1E10-4EEF-8AC6-902F921FE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BA75-F696-4B21-9D5C-2F14FD67E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D64D-48C9-4245-9B58-39E8BA078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9BF8C-7F23-4F00-8302-6160FB0DC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45FF1-CE4B-4008-A630-96937D904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3F22A-992F-4ECC-A849-20D26958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29AEC-C526-4C85-9C60-2FD20CEC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52A70-B6F4-4D64-9FAA-801576EC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ED3C6-ECA4-4D64-84D1-E6036C7E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84E73-AD53-4346-A40F-9458737A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A2DC1-3AC6-4EDF-9007-FED1613B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A125E-CEE5-41D2-AA20-12F3769C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34158-6A89-40E7-B594-53C68D89E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3D8E8-CD96-4A9A-9AC6-4216EC3E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7C123-919F-42AD-A6E0-EC2879BC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C0569-227E-4D3A-A7D2-8970EF3A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F1E11-77FC-4123-83F2-F3FA3A68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E0623-CD60-4B06-887B-448FCA7A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C924C2-6B4A-4365-A5E5-22435F6517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7E3ED-D801-4903-86FC-A5CA48177C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BCD555-2534-4CC7-9A2A-78332D46C7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93B597-9B69-48E0-BF74-139BCCDA71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F08E8B-B512-46A2-8D39-69DEF98180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089AE-1FA7-402F-9A2B-1E72A53E91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52244B-1290-456B-8DE1-00C4E2AB52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45C404-75E4-4D73-850F-139332E2E7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4D83FB-90D4-401F-B430-F725B3AD13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BC4328-2B44-4FDC-84D8-70CE9F3E42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16934B-AD2A-4EFD-A2FD-5F1416B748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0D729E-4281-40CD-94D5-3AD3A2E5FD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E71093-21D5-40C0-8C74-C4AA33BE2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3B05-E07F-4CE0-B893-B206518DD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E73B-A246-4B9C-9C27-FEA9EEA6B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30907-B4A1-490B-B5AA-565FDC9DE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06C3-6D2F-4498-9550-A11837AB3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A099-B6EE-4001-89E9-CFBE2206D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B1F6-5766-4ABA-B484-D5BC96979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4149-661C-43E5-9513-90213AAA9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212E-540F-47B0-AA09-E74ED8F6F6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6"/>
          </p:nvPr>
        </p:nvSpPr>
        <p:spPr>
          <a:xfrm>
            <a:off x="380880" y="6400080"/>
            <a:ext cx="4114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7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85BB-5054-41F6-950E-EA8AD232AA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FCCC-1DB0-4B3F-BDB6-AE5446B9B4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правил Вестгар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31480"/>
            <a:ext cx="83822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а д-ром Джеймсом О. Вестгардом, основана на принципах статис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ор правил или критериев для принятия решений о том, «в контроле» ли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, если в серии анализов поставлены контроли, по меньшей мере, двух уров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используют только с одним контр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9" descr="westgard_lecturing"/>
          <p:cNvPicPr/>
          <p:nvPr/>
        </p:nvPicPr>
        <p:blipFill>
          <a:blip r:embed="rId1"/>
          <a:stretch/>
        </p:blipFill>
        <p:spPr>
          <a:xfrm>
            <a:off x="2743200" y="39625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884920" y="4114800"/>
            <a:ext cx="21160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р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стг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0BB9-EE8C-46A5-B08A-FDB51BE72C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1074240" y="468360"/>
            <a:ext cx="526932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1. Глюкоза: Номер партии а1б2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074960" y="3429000"/>
            <a:ext cx="526788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2. Глюкоза: Номер партии а2в3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584600" y="5911920"/>
            <a:ext cx="506880" cy="1828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Д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3944-7A56-4F2C-9B06-DBB5F9B274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тветы для занят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704600"/>
            <a:ext cx="7391520" cy="41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, 22, 24, 26, 27, 30, 31, 33, 34, 36-44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 контроле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B54D-B46D-4474-AD55-1B62CF0E42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399960"/>
            <a:ext cx="8369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азвания правил системы Вестгарда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95600"/>
            <a:ext cx="4190760" cy="48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2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4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0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пользуют для серий исследований, в которых поставлены контроли двух уровн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1" descr="j0082253"/>
          <p:cNvPicPr/>
          <p:nvPr/>
        </p:nvPicPr>
        <p:blipFill>
          <a:blip r:embed="rId1"/>
          <a:stretch/>
        </p:blipFill>
        <p:spPr>
          <a:xfrm>
            <a:off x="5791320" y="3276720"/>
            <a:ext cx="2501640" cy="304776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2"/>
          <p:cNvSpPr/>
          <p:nvPr/>
        </p:nvSpPr>
        <p:spPr>
          <a:xfrm>
            <a:off x="430200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64C8-43BD-45E2-ACD4-116DCF1BA3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6400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ИЛ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ЕДУПРЕЖДЕН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причина для признания серии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 одного из двух контролей попадает вн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ет на возможны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ющим шагом применить правил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2BFF-132E-4E68-BD79-46C62228B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52520"/>
            <a:ext cx="86868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онтроля одного уровня в двух последовательных сериях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и по одну сторону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а контроля в одной серии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льзя выдавать результаты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4608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E8A6-AC8D-4296-BE4B-AA4B5051D7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е одного контроля мен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, а значение другого контроля бол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вал между двумя результатами превышает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изошла случайная ошибка, серия результатов должна считаться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EDCE-7E95-448A-AC50-85FE52BA01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7848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четырех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53712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D07C-C08F-4B60-9AE7-8431D2DC03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десяти последовательных сериях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яти последовательных сериях по одну сторону от средн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5867280" y="912960"/>
            <a:ext cx="2286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7263-BD27-4714-81A8-AF1FB6B5A4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К по правилам Вестгард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2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TextBox 1"/>
          <p:cNvSpPr/>
          <p:nvPr/>
        </p:nvSpPr>
        <p:spPr>
          <a:xfrm>
            <a:off x="2133720" y="2633760"/>
            <a:ext cx="532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20563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6709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2567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78060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7390440" y="370368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914400" y="3726000"/>
            <a:ext cx="48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838080" y="510552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238608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97980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553392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711036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3049560" y="2843280"/>
            <a:ext cx="502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 КОНТРОЛЕ»                  СЕРИЯ 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1523880" y="5605560"/>
            <a:ext cx="678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НЕ КОНТРОЛЯ»                              СЕРИЯ НЕ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rapezoid 6"/>
          <p:cNvSpPr/>
          <p:nvPr/>
        </p:nvSpPr>
        <p:spPr>
          <a:xfrm>
            <a:off x="647640" y="1332000"/>
            <a:ext cx="1658880" cy="86364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конт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83E0-40B0-4147-83C9-0B188ED29F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Verdana"/>
              </a:rPr>
              <a:t>Практическое занятие</a:t>
            </a: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1560600"/>
            <a:ext cx="72388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рименяя правила Вестгарда, проанализируйте ежедневные значения контролей (следующий слайд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Olga</cp:lastModifiedBy>
  <dcterms:modified xsi:type="dcterms:W3CDTF">2013-05-11T16:01:01Z</dcterms:modified>
  <cp:revision>21</cp:revision>
  <dc:subject/>
  <dc:title>Westgard Multirule System</dc:title>
</cp:coreProperties>
</file>